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114-96BB-4699-8BA5-87E127BD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91F-E858-425F-BACF-C2C93767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CCF-AADD-4EAE-963D-E3698870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864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516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864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516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870-2216-4F7E-9A6C-FBA0ED0F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0FB9-D788-4E27-B462-696A1269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0507-59AC-4598-BB4D-336B6BBE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8476-EF59-46D3-B47F-298A4F03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5126-794C-47CE-BBFD-3D654B16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1C32-E67E-482A-9A5C-EC0EEDBE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EE5C-FEE7-41E1-9594-E9ECC4ED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3F7B-FC66-462D-91C9-2181077E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BDB-EB21-43DB-AE55-DD3F9543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B335-712A-4ACC-B8FC-B58EA4E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3EC3-150A-4DD6-A29F-24523E27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FB01-2E53-4CB7-AE73-3177699E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0BDE-78F7-4EA5-A8B7-CB7144B5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864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516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864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516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D52C-97C5-4D59-B06E-7AAFD33B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ABC-611E-49C0-8EB6-DECC816A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DCF-4408-47E5-BF2A-59D97DE7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FD6-7A97-47F9-9ACF-AD4C3BAF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36F-52EE-4F76-8D4D-F139A6B1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34B-1CCE-477C-BF22-1BDF6803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245-F8E2-4506-856E-065EC5A0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ECA-E538-4AD0-83A1-3EF47428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56CC-6EC0-4A65-A742-BCC16828B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3C15-6010-455D-9984-E698AE412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228600" y="-152280"/>
            <a:ext cx="9372600" cy="7010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audio" Target="file:///tmp/home/.config/libreoffice/4/user/gallery/Cat%20Screetching%20and%20Wolf%20Howl.wav" TargetMode="External"/><Relationship Id="rId7" Type="http://schemas.microsoft.com/office/2007/relationships/media" Target="file:///tmp/home/.config/libreoffice/4/user/gallery/Cat%20Screetching%20and%20Wolf%20Howl.wav" TargetMode="External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6600"/>
                </a:solidFill>
                <a:latin typeface="Verdana"/>
              </a:rPr>
              <a:t>How do YOU celebrate Halloween?</a:t>
            </a:r>
            <a:endParaRPr b="1" lang="en-US" sz="40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By Glinda the Good 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When is Halloween?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120" y="525780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lloween is celebrated around the world on October 3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3243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4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Early Halloweens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lloween originated in Ireland by the Celtic people, over 2000 years ago to mark the end of summ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7339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Jack-O-Lanterns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52578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y, Jack-o-lanterns are carved from pumpkins and lit with candles.  Originally the Celts used carved turnips to light their w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911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Trick or Treat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y children dress up in funny or scary costumes and go from door to door in their neighborhood seeking trea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1641240" cy="231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2130480" cy="23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72200" y="1371600"/>
            <a:ext cx="22939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Spooky Things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of the spooky things you might see on Halloween are haunted houses, ghosts, skeletons, witches, black cats and bat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2658960"/>
            <a:ext cx="1801800" cy="2370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2133720" cy="1909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1860480" cy="159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flipH="1" rot="1546200">
            <a:off x="7029000" y="762120"/>
            <a:ext cx="1809720" cy="134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124080" y="1600200"/>
            <a:ext cx="2892600" cy="3124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55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Happy Halloween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120" y="5257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fun and be safe on October 3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1722600"/>
            <a:ext cx="34290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41:13Z</dcterms:created>
  <dc:creator>© Wendy Russell</dc:creator>
  <dc:description/>
  <dc:language>en-US</dc:language>
  <cp:lastModifiedBy>Wendy Russell</cp:lastModifiedBy>
  <dcterms:modified xsi:type="dcterms:W3CDTF">2007-08-24T18:28:05Z</dcterms:modified>
  <cp:revision>46</cp:revision>
  <dc:subject>Halloween Sample Story Template</dc:subject>
  <dc:title>PowerPoint Halloween Sample Story Template</dc:title>
</cp:coreProperties>
</file>